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66DF-A17C-4D78-9DCB-1C6B72F509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nde sea necesario, recordar a los participantes los 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 buen gobierno ayuda a los países ricos en petróleo, gas y minerales a traducir esa riqueza en crecimiento económico y reducción de la pobreza. Cuando el gobierno es débil, estos recursos pueden actuar como una "maldición" que resulta en mala gestión, corrupción, pobreza y conflic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 Iniciativa por la Transparencia de las Industrias Extractivas (ITIE/EITI) aboga por la transparencia sobre los ingresos - ofreciendo un enfoque sólido y flexible para conciliar los pagos de la industria con los ingresos del gobi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ormar a los participant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que ellos también recibirán un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uestionario de seguimiento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El propósito es medir la eficacia del evento de capacitación, después de que hayan regresado a sus lugares de trabajo. Llegará después de un hito importante en la sociedad civil y/o un plan de trabajo de la ITIE/EITI, tal como la publicación de un informe fina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E89-215B-49C6-B013-E09B9618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D62-6980-4936-B253-BA4E4722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B7B-6A0B-4E19-974F-CB8BF732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9D2-344B-42E5-BCD3-F6B6F75D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B02-4015-432C-A0CA-D2DD3AA0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9E1-47CF-43BA-9C21-1E4E6243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CC0-400A-4FCB-986A-52EB3646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058-38F7-4C47-B363-7D245F77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20F-24B0-4FFD-80FD-ECB72CA6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C86-F004-407C-9072-9D920B1C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989-199A-4342-92E0-8329D4A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681-6726-400B-8494-7D05963E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7760-95AB-4210-B8A4-00A511861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_UNSSC_pantone_660_small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Dinámica: </a:t>
            </a:r>
            <a:br>
              <a:rPr sz="4400"/>
            </a:b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Gran Concurso EBDH-GB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ósi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undir y sorprender a tus colega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Instruccion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920" y="907560"/>
            <a:ext cx="8408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 grupos ... (15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rib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nco pregunt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bre el EBDH y GBR que dejen perplejos a sus cole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preguntas pueden estar formuladas en cualquier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dadero/falso, tipo test, nar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s principios más normativos, en orden inver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as tres obligaciones de los titulares de obligacio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 un ejemplo sencillo usando 'vivienda‘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la sigla oficial del "Examen Periódico Universal" en francés y en españ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el Día de los Derechos Humanos, y qué conmemo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bre tres instrumentos regionales (¡es una pregunta con trampa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Quién aparece con más frecuencia en imágenes sosteniendo la Declaración Univers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e sus 5 preguntas en un rotafolios - mantenerlo oc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¡A divertirse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900" spc="-1" strike="noStrike">
                <a:solidFill>
                  <a:srgbClr val="0000ff"/>
                </a:solidFill>
                <a:latin typeface="Arial"/>
              </a:rPr>
              <a:t>Evaluación</a:t>
            </a:r>
            <a:endParaRPr b="1" lang="en-US" sz="59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OHCHR</cp:lastModifiedBy>
  <dcterms:modified xsi:type="dcterms:W3CDTF">2011-03-19T16:33:53Z</dcterms:modified>
  <cp:revision>785</cp:revision>
  <dc:subject/>
  <dc:title>PowerPoint Presentation</dc:title>
</cp:coreProperties>
</file>